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012-177A-4517-9308-8DCE6487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47F-EE8F-468E-BA5D-C1C35DD5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502-FC42-4A5E-BA5B-6A278E70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6FC-FE37-4678-81E1-8454AF44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206-3CFE-443C-8C62-49A5B352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E24-86FD-4A39-9F15-79009DF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F99-EFA5-489B-B80C-8D4DDD8A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595-28B6-49FB-B4EC-AD458F7C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26B-0198-470C-882E-38CFFB68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414-3FF6-4CF7-9144-3C19C70E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BAF-881E-4486-9625-DA1395A3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A83-DB94-45BC-A00F-2D6BA942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18E8-39AA-4698-9838-B0487EFE06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ornhill 3"/>
          <p:cNvPicPr/>
          <p:nvPr/>
        </p:nvPicPr>
        <p:blipFill>
          <a:blip r:embed="rId1"/>
          <a:stretch/>
        </p:blipFill>
        <p:spPr>
          <a:xfrm>
            <a:off x="1928880" y="404640"/>
            <a:ext cx="1096920" cy="113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Wanlock1"/>
          <p:cNvPicPr/>
          <p:nvPr/>
        </p:nvPicPr>
        <p:blipFill>
          <a:blip r:embed="rId2"/>
          <a:stretch/>
        </p:blipFill>
        <p:spPr>
          <a:xfrm>
            <a:off x="3657600" y="333360"/>
            <a:ext cx="895320" cy="121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umfrieshire Ex Pres"/>
          <p:cNvPicPr/>
          <p:nvPr/>
        </p:nvPicPr>
        <p:blipFill>
          <a:blip r:embed="rId3"/>
          <a:stretch/>
        </p:blipFill>
        <p:spPr>
          <a:xfrm>
            <a:off x="5024520" y="476280"/>
            <a:ext cx="1042920" cy="996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0" y="1500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HILL                                       THORNHILL                              WANLOCK PUBLIC           DUMFRIES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94488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Thornhill 1"/>
          <p:cNvPicPr/>
          <p:nvPr/>
        </p:nvPicPr>
        <p:blipFill>
          <a:blip r:embed="rId4"/>
          <a:stretch/>
        </p:blipFill>
        <p:spPr>
          <a:xfrm>
            <a:off x="344520" y="333360"/>
            <a:ext cx="969840" cy="1206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15:15:54Z</dcterms:created>
  <dc:creator>JY</dc:creator>
  <dc:description/>
  <dc:language>en-US</dc:language>
  <cp:lastModifiedBy>John</cp:lastModifiedBy>
  <dcterms:modified xsi:type="dcterms:W3CDTF">2011-11-29T19:17:16Z</dcterms:modified>
  <cp:revision>10</cp:revision>
  <dc:subject/>
  <dc:title>Slide 1</dc:title>
</cp:coreProperties>
</file>